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0BD-B864-429D-AC2C-D2AD57EB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CAC-7820-4756-8D06-70106E12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3A6-E560-4800-8A94-9C7C3C86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247-7A10-45C1-BF26-AB76FDD6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FA4-DD33-4B7D-8928-337DF6A4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5E7-88D1-4DE9-B6CF-98D1DC6C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01F-B16E-4EFA-9E3F-C514E858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39F-81D8-4C64-BBD0-6659B5F4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868-CD1C-4ED7-9F28-AF7AACAA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88A-2B6F-4CB6-B015-9A8FB2CF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DDB-40ED-4455-8F19-AA2E029F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5CA-CDA9-4394-A740-6F5E253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35F-D8DC-4CC7-A5E9-2E0BE65EF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733920"/>
            <a:ext cx="2971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Chali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Al Fr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23” x 9”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733920"/>
            <a:ext cx="297180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Nature’s Sequ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Billie Ruth Suddeth, American, born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hand dyed European-cut reed splints, natural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 14” x 17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4720" y="838080"/>
            <a:ext cx="2000520" cy="266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91120" y="8478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56386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and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interdependence of people, resource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weaving, sculpture, qualities of art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:  natural resources, minerals, pl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:  attributes, three dimensional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8080" y="19224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rt object in this photo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18560" y="990720"/>
            <a:ext cx="482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way it looks, can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ords you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is object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 or warm if you touche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is object has a u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s it just created for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ok at and think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13160" y="1106640"/>
            <a:ext cx="458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is obj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you can t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need mo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we put in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to help viewers know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93280" y="609480"/>
            <a:ext cx="451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have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create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people ge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to make this obj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ols do you think 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does it appea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meone gave this objec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s a gift, what would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3753000" cy="281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0760" y="228600"/>
            <a:ext cx="78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let’s examine a very different looking art objec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760" y="3657600"/>
            <a:ext cx="743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type of object this is?  How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know how it would feel if you could touc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heavy or 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does it app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ays you imagine it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41148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know about basket wea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baskets? Where would the artist get these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explain to someone how to make a baske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4343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describe (explain) some of the ways that people have used baskets in the pa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ays that people use baskets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you do with this bas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200052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4440" y="22860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se two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6720" y="3809880"/>
            <a:ext cx="694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both objects s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ome ways they ar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carefully 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/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                       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                  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1:54:26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